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E40-BF08-4D7C-AA56-3B79761B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1A4-2B7E-468D-97D4-C3341C81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741-C6B5-4A88-A7FB-49B0B1C2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B37-5C9E-4408-9D14-6E604737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D138-9505-4368-AEDF-B8CE72ED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CA6-1FD9-4A7C-83A0-567DB2FC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F0D-910A-4341-AD97-365E258B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94F-B217-4277-BEB0-3DC96520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665-56D6-4FE3-96F0-77B7FEF2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69E-48DC-4FC0-8627-846B21BD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741-3A5B-4E08-A09A-3A1833CC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3F7-72D5-4471-A998-7A471BA2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3119-767A-4FA6-B14F-84A68AEE2DF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C121-F51F-44A5-8109-1A8A47FA6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40548" t="0" r="0" b="0"/>
          <a:stretch/>
        </p:blipFill>
        <p:spPr>
          <a:xfrm>
            <a:off x="250920" y="222120"/>
            <a:ext cx="3384360" cy="5428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0" y="5445000"/>
            <a:ext cx="914400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1"/>
          <p:cNvSpPr/>
          <p:nvPr/>
        </p:nvSpPr>
        <p:spPr>
          <a:xfrm>
            <a:off x="250920" y="58006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Jean-Pierre Hal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Head of Unit Rural Development, Food Security and Nutr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DG Development-European Com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12" descr="Couv.jpg"/>
          <p:cNvPicPr/>
          <p:nvPr/>
        </p:nvPicPr>
        <p:blipFill>
          <a:blip r:embed="rId2"/>
          <a:stretch/>
        </p:blipFill>
        <p:spPr>
          <a:xfrm>
            <a:off x="0" y="977760"/>
            <a:ext cx="9144000" cy="4472280"/>
          </a:xfrm>
          <a:prstGeom prst="rect">
            <a:avLst/>
          </a:prstGeom>
          <a:ln w="0">
            <a:noFill/>
          </a:ln>
        </p:spPr>
      </p:pic>
      <p:sp>
        <p:nvSpPr>
          <p:cNvPr id="46" name="ZoneTexte 13"/>
          <p:cNvSpPr/>
          <p:nvPr/>
        </p:nvSpPr>
        <p:spPr>
          <a:xfrm>
            <a:off x="497160" y="1116000"/>
            <a:ext cx="78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17375e"/>
                </a:solidFill>
                <a:latin typeface="Arial"/>
              </a:rPr>
              <a:t>Enhancing Maternal and Child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17375e"/>
                </a:solidFill>
                <a:latin typeface="Arial"/>
              </a:rPr>
              <a:t>in External Assistance: An EU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17375e"/>
                </a:solidFill>
                <a:latin typeface="Arial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European Commission logo"/>
          <p:cNvPicPr/>
          <p:nvPr/>
        </p:nvPicPr>
        <p:blipFill>
          <a:blip r:embed="rId3"/>
          <a:stretch/>
        </p:blipFill>
        <p:spPr>
          <a:xfrm>
            <a:off x="7380360" y="19080"/>
            <a:ext cx="123192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39CE-DD09-4CFB-BFEF-52A6BC4AA3F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space réservé du pied de page 8"/>
          <p:cNvSpPr/>
          <p:nvPr/>
        </p:nvSpPr>
        <p:spPr>
          <a:xfrm>
            <a:off x="-36360" y="6519960"/>
            <a:ext cx="928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Enhancing Maternal and Child Nutrition in External assistance: an EU policy frame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0"/>
          <p:cNvSpPr/>
          <p:nvPr/>
        </p:nvSpPr>
        <p:spPr>
          <a:xfrm>
            <a:off x="250920" y="1268280"/>
            <a:ext cx="69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b0f0"/>
                </a:solidFill>
                <a:latin typeface="Calibri"/>
              </a:rPr>
              <a:t>The Commission's commitment to reduce st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The Commission has tak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the committment to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partner countries in reducing </a:t>
            </a: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the number of children under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suffering from stunting by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least 7 million by 20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(10% of the WHA global targ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European Commission logo"/>
          <p:cNvPicPr/>
          <p:nvPr/>
        </p:nvPicPr>
        <p:blipFill>
          <a:blip r:embed="rId2"/>
          <a:stretch/>
        </p:blipFill>
        <p:spPr>
          <a:xfrm>
            <a:off x="7308720" y="19080"/>
            <a:ext cx="1231920" cy="8524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3" descr=""/>
          <p:cNvPicPr/>
          <p:nvPr/>
        </p:nvPicPr>
        <p:blipFill>
          <a:blip r:embed="rId3"/>
          <a:stretch/>
        </p:blipFill>
        <p:spPr>
          <a:xfrm>
            <a:off x="3387600" y="1773360"/>
            <a:ext cx="48564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0C15-1F0D-4973-A41D-89855423C19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pied de page 8"/>
          <p:cNvSpPr/>
          <p:nvPr/>
        </p:nvSpPr>
        <p:spPr>
          <a:xfrm>
            <a:off x="-36360" y="6519960"/>
            <a:ext cx="950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Enhancing Maternal and Child Nutrition in External assistance: an EU policy frame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0"/>
          <p:cNvSpPr/>
          <p:nvPr/>
        </p:nvSpPr>
        <p:spPr>
          <a:xfrm>
            <a:off x="390600" y="1125360"/>
            <a:ext cx="86407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Calibri"/>
              </a:rPr>
              <a:t>Communication </a:t>
            </a:r>
            <a:r>
              <a:rPr b="1" lang="en-GB" sz="2400" spc="-1" strike="noStrike">
                <a:solidFill>
                  <a:srgbClr val="00b0f0"/>
                </a:solidFill>
                <a:latin typeface="Calibri"/>
              </a:rPr>
              <a:t>"Enhancing Maternal and Child Nutrition in External Assistanc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Calibri"/>
              </a:rPr>
              <a:t>Prepared jointly between DG DEVCO and DG ECHO and built around two 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Calibri"/>
                <a:ea typeface="Arial"/>
              </a:rPr>
              <a:t>Reduction of under 5 stunted (by 7 Million in 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Calibri"/>
                <a:ea typeface="Arial"/>
              </a:rPr>
              <a:t>Reduction of under 5 wa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3 strategic prior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Enhance mobilisation and political commitment for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Scale up action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Strengthening the knowledge-base on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Accountability fra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Monitoring/measuring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Resource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European Commission logo"/>
          <p:cNvPicPr/>
          <p:nvPr/>
        </p:nvPicPr>
        <p:blipFill>
          <a:blip r:embed="rId2"/>
          <a:stretch/>
        </p:blipFill>
        <p:spPr>
          <a:xfrm>
            <a:off x="7308720" y="19080"/>
            <a:ext cx="123192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FF86-54C8-457E-83C8-878FF1B3376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8"/>
          <p:cNvSpPr/>
          <p:nvPr/>
        </p:nvSpPr>
        <p:spPr>
          <a:xfrm>
            <a:off x="-36360" y="6519960"/>
            <a:ext cx="950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Enhancing Maternal and Child Nutrition in External assistance: an EU policy frame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0"/>
          <p:cNvSpPr/>
          <p:nvPr/>
        </p:nvSpPr>
        <p:spPr>
          <a:xfrm>
            <a:off x="250920" y="981000"/>
            <a:ext cx="86421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f0"/>
                </a:solidFill>
                <a:latin typeface="Calibri"/>
                <a:ea typeface="Arial"/>
              </a:rPr>
              <a:t>Monitoring/measuring result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European Commission logo"/>
          <p:cNvPicPr/>
          <p:nvPr/>
        </p:nvPicPr>
        <p:blipFill>
          <a:blip r:embed="rId2"/>
          <a:stretch/>
        </p:blipFill>
        <p:spPr>
          <a:xfrm>
            <a:off x="7308720" y="19080"/>
            <a:ext cx="1231920" cy="85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3"/>
          <a:stretch/>
        </p:blipFill>
        <p:spPr>
          <a:xfrm>
            <a:off x="320760" y="1601640"/>
            <a:ext cx="3781440" cy="2684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4365720" y="3909960"/>
            <a:ext cx="3851280" cy="273384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5"/>
          <p:cNvSpPr/>
          <p:nvPr/>
        </p:nvSpPr>
        <p:spPr>
          <a:xfrm>
            <a:off x="4356000" y="160164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Both countries have a number of ~ 5 millions stunted children in 2010 (and roughly the same prevalence: 44% vs 43%) but in order to reach the 40% WHA reduction target the AARR needed varies considerably (1.8 in Ethiopia against 6.8 in DR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6"/>
          <p:cNvSpPr/>
          <p:nvPr/>
        </p:nvSpPr>
        <p:spPr>
          <a:xfrm>
            <a:off x="320760" y="4465800"/>
            <a:ext cx="403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Stunting reduction targets to be defined at country level in order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85840">
              <a:lnSpc>
                <a:spcPct val="100000"/>
              </a:lnSpc>
              <a:buClr>
                <a:srgbClr val="40404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align Government, donor, UN, civil society and private sector effo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85840">
              <a:lnSpc>
                <a:spcPct val="100000"/>
              </a:lnSpc>
              <a:buClr>
                <a:srgbClr val="40404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set clear national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3F98-948B-4CD6-AF75-F3404B43DA1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space réservé du pied de page 8"/>
          <p:cNvSpPr/>
          <p:nvPr/>
        </p:nvSpPr>
        <p:spPr>
          <a:xfrm>
            <a:off x="-36360" y="6519960"/>
            <a:ext cx="950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Enhancing Maternal and Child Nutrition in External assistance: an EU policy frame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0"/>
          <p:cNvSpPr/>
          <p:nvPr/>
        </p:nvSpPr>
        <p:spPr>
          <a:xfrm>
            <a:off x="385920" y="901800"/>
            <a:ext cx="864072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f0"/>
                </a:solidFill>
                <a:latin typeface="Calibri"/>
                <a:ea typeface="Arial"/>
              </a:rPr>
              <a:t>Monitoring/measuring results 2: International Networked Information Systems on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reate a network of research institutions and organisation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onitor national and global progress in reducing undernutritio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termine association between changes in stunting and financial investments (domestic and international) in nutrition; and build plausibility arguments on the (cost) effectiveness of different interventions in reducing undernutr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 the country on track to meet its national target on stunting redu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we collectively on-track to meet the global 2025 targe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does progress in stunting tally with nutrition invest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programmes are associated with the greatest stunting reduc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interventions seem to be more cost-effective in terms of reducing stun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European Commission logo"/>
          <p:cNvPicPr/>
          <p:nvPr/>
        </p:nvPicPr>
        <p:blipFill>
          <a:blip r:embed="rId2"/>
          <a:stretch/>
        </p:blipFill>
        <p:spPr>
          <a:xfrm>
            <a:off x="7308720" y="19080"/>
            <a:ext cx="123192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4686-C37B-4C10-B523-78101E686BD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8"/>
          <p:cNvSpPr/>
          <p:nvPr/>
        </p:nvSpPr>
        <p:spPr>
          <a:xfrm>
            <a:off x="-36360" y="6519960"/>
            <a:ext cx="950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Enhancing Maternal and Child Nutrition in External assistance: an EU policy frame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0"/>
          <p:cNvSpPr/>
          <p:nvPr/>
        </p:nvSpPr>
        <p:spPr>
          <a:xfrm>
            <a:off x="385920" y="695160"/>
            <a:ext cx="86407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f0"/>
                </a:solidFill>
                <a:latin typeface="Calibri"/>
                <a:ea typeface="Arial"/>
              </a:rPr>
              <a:t>Resource Trac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Consistent Common Methodology for all SUN donors for regular reporting on nutr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  <a:ea typeface="Arial"/>
              </a:rPr>
              <a:t>The basis for broader reporting tool for all partners: from governments to civil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uropean Commission logo"/>
          <p:cNvPicPr/>
          <p:nvPr/>
        </p:nvPicPr>
        <p:blipFill>
          <a:blip r:embed="rId2"/>
          <a:stretch/>
        </p:blipFill>
        <p:spPr>
          <a:xfrm>
            <a:off x="7308720" y="19080"/>
            <a:ext cx="1231920" cy="852480"/>
          </a:xfrm>
          <a:prstGeom prst="rect">
            <a:avLst/>
          </a:prstGeom>
          <a:ln w="0">
            <a:noFill/>
          </a:ln>
        </p:spPr>
      </p:pic>
      <p:sp>
        <p:nvSpPr>
          <p:cNvPr id="88" name="Rounded Rectangle 11"/>
          <p:cNvSpPr/>
          <p:nvPr/>
        </p:nvSpPr>
        <p:spPr>
          <a:xfrm>
            <a:off x="912960" y="5602320"/>
            <a:ext cx="5116320" cy="8841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5ec1"/>
                </a:solidFill>
                <a:latin typeface="Calibri"/>
              </a:rPr>
              <a:t>I</a:t>
            </a:r>
            <a:r>
              <a:rPr b="0" lang="fr-BE" sz="1600" spc="-1" strike="noStrike">
                <a:solidFill>
                  <a:srgbClr val="2d5ec1"/>
                </a:solidFill>
                <a:latin typeface="Calibri"/>
              </a:rPr>
              <a:t>nterventions addressing the underlying determinants of undernutr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13"/>
          <p:cNvSpPr/>
          <p:nvPr/>
        </p:nvSpPr>
        <p:spPr>
          <a:xfrm>
            <a:off x="987480" y="2330280"/>
            <a:ext cx="4968720" cy="71784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d5ec1"/>
                </a:solidFill>
                <a:latin typeface="Calibri"/>
              </a:rPr>
              <a:t>Nutrition</a:t>
            </a:r>
            <a:r>
              <a:rPr b="0" lang="fr-BE" sz="1600" spc="-1" strike="noStrike">
                <a:solidFill>
                  <a:srgbClr val="2d5ec1"/>
                </a:solidFill>
                <a:latin typeface="Calibri"/>
              </a:rPr>
              <a:t>-specific inter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d5ec1"/>
                </a:solidFill>
                <a:latin typeface="Calibri"/>
              </a:rPr>
              <a:t>(DAC code 1244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878040" y="3139920"/>
            <a:ext cx="5186160" cy="2349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d5ec1"/>
                </a:solidFill>
                <a:latin typeface="Calibri"/>
              </a:rPr>
              <a:t>Nutrition</a:t>
            </a:r>
            <a:r>
              <a:rPr b="0" lang="fr-BE" sz="1600" spc="-1" strike="noStrike">
                <a:solidFill>
                  <a:srgbClr val="2d5ec1"/>
                </a:solidFill>
                <a:latin typeface="Calibri"/>
              </a:rPr>
              <a:t>-sensitive inter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d5ec1"/>
                </a:solidFill>
                <a:latin typeface="Calibri"/>
              </a:rPr>
              <a:t>Designed for nutrition/intending to improve nutri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2720">
              <a:lnSpc>
                <a:spcPct val="100000"/>
              </a:lnSpc>
              <a:buClr>
                <a:srgbClr val="2d5ec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d5ec1"/>
                </a:solidFill>
                <a:latin typeface="Calibri"/>
                <a:ea typeface="Arial"/>
              </a:rPr>
              <a:t>Nutrition as the main 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2720" algn="r">
              <a:lnSpc>
                <a:spcPct val="100000"/>
              </a:lnSpc>
              <a:buClr>
                <a:srgbClr val="2d5ec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2720">
              <a:lnSpc>
                <a:spcPct val="100000"/>
              </a:lnSpc>
              <a:buClr>
                <a:srgbClr val="2d5ec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d5ec1"/>
                </a:solidFill>
                <a:latin typeface="Calibri"/>
                <a:ea typeface="Arial"/>
              </a:rPr>
              <a:t>Nutrition as a significant 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eft Arrow Callout 3"/>
          <p:cNvSpPr/>
          <p:nvPr/>
        </p:nvSpPr>
        <p:spPr>
          <a:xfrm>
            <a:off x="6345360" y="2490840"/>
            <a:ext cx="2160360" cy="395280"/>
          </a:xfrm>
          <a:prstGeom prst="leftArrowCallout">
            <a:avLst>
              <a:gd name="adj1" fmla="val 0"/>
              <a:gd name="adj2" fmla="val 32065"/>
              <a:gd name="adj3" fmla="val 86763"/>
              <a:gd name="adj4" fmla="val 6145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eft Arrow Callout 8"/>
          <p:cNvSpPr/>
          <p:nvPr/>
        </p:nvSpPr>
        <p:spPr>
          <a:xfrm>
            <a:off x="6408720" y="3719520"/>
            <a:ext cx="2160720" cy="396720"/>
          </a:xfrm>
          <a:prstGeom prst="leftArrowCallout">
            <a:avLst>
              <a:gd name="adj1" fmla="val 0"/>
              <a:gd name="adj2" fmla="val 32065"/>
              <a:gd name="adj3" fmla="val 86463"/>
              <a:gd name="adj4" fmla="val 6145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eft Arrow Callout 9"/>
          <p:cNvSpPr/>
          <p:nvPr/>
        </p:nvSpPr>
        <p:spPr>
          <a:xfrm>
            <a:off x="6429240" y="4381560"/>
            <a:ext cx="2160720" cy="395280"/>
          </a:xfrm>
          <a:prstGeom prst="leftArrowCallout">
            <a:avLst>
              <a:gd name="adj1" fmla="val 0"/>
              <a:gd name="adj2" fmla="val 32065"/>
              <a:gd name="adj3" fmla="val 86778"/>
              <a:gd name="adj4" fmla="val 6145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X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eft Arrow Callout 11"/>
          <p:cNvSpPr/>
          <p:nvPr/>
        </p:nvSpPr>
        <p:spPr>
          <a:xfrm>
            <a:off x="6345360" y="5846760"/>
            <a:ext cx="2160360" cy="396720"/>
          </a:xfrm>
          <a:prstGeom prst="leftArrowCallout">
            <a:avLst>
              <a:gd name="adj1" fmla="val 0"/>
              <a:gd name="adj2" fmla="val 32065"/>
              <a:gd name="adj3" fmla="val 86448"/>
              <a:gd name="adj4" fmla="val 6145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Y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2:02:01Z</dcterms:created>
  <dc:creator>gdruhen</dc:creator>
  <dc:description/>
  <dc:language>en-US</dc:language>
  <cp:lastModifiedBy>conf2013</cp:lastModifiedBy>
  <dcterms:modified xsi:type="dcterms:W3CDTF">2013-05-14T10:06:17Z</dcterms:modified>
  <cp:revision>28</cp:revision>
  <dc:subject/>
  <dc:title>Diapositive 1</dc:title>
</cp:coreProperties>
</file>